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FBB-9AB7-4253-9BBD-17732472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85B-E075-4E45-9C1B-1A2E86ED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25D-2D06-4C9A-88E4-85984301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B51-BE3B-4E83-99EA-63022430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B67-0390-4AA4-966B-F464A3C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865-5B43-4B18-A491-723C730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A36-4298-48DB-AEA8-47AF4FE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AA1-36A3-4806-A943-1818362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9AF-DAAC-4D82-B974-39EE332B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A20-CFB7-4CA9-9BB4-8012293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5EF-7DAD-48FF-AD1D-5C94A15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FE6-FEC7-44E6-91CC-A95C337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C80-4A7F-45AB-A23F-AD48FCDA3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Eigenbewegung</a:t>
            </a:r>
            <a:br>
              <a:rPr sz="4000"/>
            </a:b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und parallaktische Bewegung</a:t>
            </a:r>
            <a:br>
              <a:rPr sz="4000"/>
            </a:b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eines Fixsterns</a:t>
            </a:r>
            <a:br>
              <a:rPr sz="4000"/>
            </a:br>
            <a:r>
              <a:rPr b="1" lang="de-DE" sz="4000" spc="-1" strike="noStrike">
                <a:solidFill>
                  <a:srgbClr val="ffff00"/>
                </a:solidFill>
                <a:latin typeface="Arial"/>
              </a:rPr>
              <a:t>(„Barnard‘s Pfeilstern“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03800" y="150480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571560" cy="230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2200" y="1000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. Oktober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12320" y="981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.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03800" y="150480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3571920" cy="230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400" y="1000080"/>
            <a:ext cx="39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. Oktober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gespiegelt und kontrastverstärkt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12320" y="981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.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03800" y="150480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357192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18400" y="100008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. Oktober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kaliert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12320" y="981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.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03800" y="150480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005000" cy="317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18400" y="100008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. Oktober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und gedre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12320" y="981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.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30640" y="1413000"/>
            <a:ext cx="4905360" cy="490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05400" y="1000080"/>
            <a:ext cx="43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. Oktober 1993 und 18.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übereinander gele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70040" y="3286080"/>
            <a:ext cx="1040400" cy="2600640"/>
            <a:chOff x="7070040" y="3286080"/>
            <a:chExt cx="1040400" cy="2600640"/>
          </a:xfrm>
        </p:grpSpPr>
        <p:sp>
          <p:nvSpPr>
            <p:cNvPr id="72" name=""/>
            <p:cNvSpPr/>
            <p:nvPr/>
          </p:nvSpPr>
          <p:spPr>
            <a:xfrm>
              <a:off x="7070040" y="56102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7.10.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1480" y="3286080"/>
              <a:ext cx="94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8.11.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61760" y="100008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e Bewegung des Sterns 1993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ls An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6160" y="1052640"/>
            <a:ext cx="6802560" cy="552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61760" y="100008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e Bewegung des Sterns 1993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übereinander gele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30240" y="1089000"/>
            <a:ext cx="6521400" cy="529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040" y="2565360"/>
            <a:ext cx="40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e Bewegung des Sterns 1993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it der aktuellen Position Ende 200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m Start der neuen Mess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1:14:25Z</dcterms:created>
  <dc:creator>Udo Backhaus</dc:creator>
  <dc:description/>
  <dc:language>en-US</dc:language>
  <cp:lastModifiedBy>Udo Backhaus</cp:lastModifiedBy>
  <dcterms:modified xsi:type="dcterms:W3CDTF">2009-01-19T06:30:55Z</dcterms:modified>
  <cp:revision>6</cp:revision>
  <dc:subject/>
  <dc:title>Folie 1</dc:title>
</cp:coreProperties>
</file>